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67FF-81F1-456F-9684-F355D6C3E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FE0-9A43-4766-A878-21603009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CFC3-DC27-4628-9B2E-6C068463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2334-6659-4878-8A41-42873FA1B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655E-EBCF-4D81-83C6-AB6A646A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658-A203-4078-8055-61E984CB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8AF-E1C9-45B7-A8D4-C163C20C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959-A2F1-4950-A528-DEF0BC44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BAF-5CBA-4B22-8F21-282A1C81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08AE-0FB9-481B-A5A2-FDE5015B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E0F3-AFE4-4FB1-AD5C-342837AA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EAB-6229-4EE2-AE57-92A76515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7192-2DBC-4559-8A63-BE0980D3F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2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image" Target="../media/image12.jpeg"/><Relationship Id="rId14" Type="http://schemas.openxmlformats.org/officeDocument/2006/relationships/image" Target="../media/image14.jpeg"/><Relationship Id="rId15" Type="http://schemas.openxmlformats.org/officeDocument/2006/relationships/image" Target="../media/image11.jpeg"/><Relationship Id="rId16" Type="http://schemas.openxmlformats.org/officeDocument/2006/relationships/image" Target="../media/image15.jpeg"/><Relationship Id="rId17" Type="http://schemas.openxmlformats.org/officeDocument/2006/relationships/image" Target="../media/image12.jpeg"/><Relationship Id="rId18" Type="http://schemas.openxmlformats.org/officeDocument/2006/relationships/image" Target="../media/image14.jpe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6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7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197000"/>
            <a:ext cx="7705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bservation ide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9640" y="4508640"/>
            <a:ext cx="2016360" cy="1952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0" r="0" b="5215"/>
          <a:stretch/>
        </p:blipFill>
        <p:spPr>
          <a:xfrm>
            <a:off x="7613640" y="549360"/>
            <a:ext cx="1020600" cy="25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2271600" cy="2305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rcRect l="0" t="0" r="37239" b="0"/>
          <a:stretch/>
        </p:blipFill>
        <p:spPr>
          <a:xfrm>
            <a:off x="6804000" y="4149720"/>
            <a:ext cx="1766880" cy="2087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148360" y="404640"/>
            <a:ext cx="1944720" cy="1675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298764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4643280" y="2205000"/>
            <a:ext cx="2737080" cy="2068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rcRect l="14400" t="11329" r="16242" b="14958"/>
          <a:stretch/>
        </p:blipFill>
        <p:spPr>
          <a:xfrm>
            <a:off x="3276720" y="765000"/>
            <a:ext cx="1444680" cy="1943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rcRect l="0" t="10071" r="0" b="16000"/>
          <a:stretch/>
        </p:blipFill>
        <p:spPr>
          <a:xfrm>
            <a:off x="4572000" y="4508640"/>
            <a:ext cx="2305080" cy="1703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298764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rcRect l="14400" t="11329" r="16242" b="14958"/>
          <a:stretch/>
        </p:blipFill>
        <p:spPr>
          <a:xfrm>
            <a:off x="3276720" y="765000"/>
            <a:ext cx="1444680" cy="1943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2"/>
          <a:srcRect l="0" t="10071" r="0" b="16000"/>
          <a:stretch/>
        </p:blipFill>
        <p:spPr>
          <a:xfrm>
            <a:off x="4572000" y="4508640"/>
            <a:ext cx="2305080" cy="1703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3"/>
          <a:stretch/>
        </p:blipFill>
        <p:spPr>
          <a:xfrm>
            <a:off x="298764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4"/>
          <a:srcRect l="14400" t="11329" r="16242" b="14958"/>
          <a:stretch/>
        </p:blipFill>
        <p:spPr>
          <a:xfrm>
            <a:off x="3276720" y="765000"/>
            <a:ext cx="1444680" cy="1943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5"/>
          <a:stretch/>
        </p:blipFill>
        <p:spPr>
          <a:xfrm>
            <a:off x="5148360" y="404640"/>
            <a:ext cx="1944720" cy="1675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6"/>
          <a:srcRect l="0" t="10071" r="0" b="16000"/>
          <a:stretch/>
        </p:blipFill>
        <p:spPr>
          <a:xfrm>
            <a:off x="4572000" y="4508640"/>
            <a:ext cx="2305080" cy="1703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7"/>
          <a:stretch/>
        </p:blipFill>
        <p:spPr>
          <a:xfrm>
            <a:off x="298764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8"/>
          <a:srcRect l="14400" t="11329" r="16242" b="14958"/>
          <a:stretch/>
        </p:blipFill>
        <p:spPr>
          <a:xfrm>
            <a:off x="3276720" y="765000"/>
            <a:ext cx="144468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765000"/>
            <a:ext cx="7272360" cy="1943280"/>
          </a:xfrm>
          <a:prstGeom prst="wedgeRoundRectCallout">
            <a:avLst>
              <a:gd name="adj1" fmla="val -9287"/>
              <a:gd name="adj2" fmla="val 74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look at the tray ag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things will be different can you guess what they 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859280" y="2421000"/>
            <a:ext cx="2016360" cy="1952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0" t="0" r="0" b="5215"/>
          <a:stretch/>
        </p:blipFill>
        <p:spPr>
          <a:xfrm>
            <a:off x="7613640" y="549360"/>
            <a:ext cx="1020600" cy="259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2271600" cy="2305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rcRect l="0" t="0" r="37239" b="0"/>
          <a:stretch/>
        </p:blipFill>
        <p:spPr>
          <a:xfrm>
            <a:off x="6804000" y="4149720"/>
            <a:ext cx="1766880" cy="208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148360" y="404640"/>
            <a:ext cx="1944720" cy="16750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262728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rcRect l="14400" t="11329" r="16242" b="14958"/>
          <a:stretch/>
        </p:blipFill>
        <p:spPr>
          <a:xfrm>
            <a:off x="3276720" y="765000"/>
            <a:ext cx="1444680" cy="1943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rcRect l="0" t="10071" r="0" b="16000"/>
          <a:stretch/>
        </p:blipFill>
        <p:spPr>
          <a:xfrm>
            <a:off x="4572000" y="4508640"/>
            <a:ext cx="230508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4508640"/>
            <a:ext cx="2016360" cy="1952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rcRect l="0" t="0" r="0" b="5215"/>
          <a:stretch/>
        </p:blipFill>
        <p:spPr>
          <a:xfrm>
            <a:off x="7613640" y="549360"/>
            <a:ext cx="1020600" cy="2592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2271600" cy="2305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rcRect l="0" t="0" r="37239" b="0"/>
          <a:stretch/>
        </p:blipFill>
        <p:spPr>
          <a:xfrm>
            <a:off x="6804000" y="4149720"/>
            <a:ext cx="1766880" cy="2087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5148360" y="404640"/>
            <a:ext cx="1944720" cy="1675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298764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4643280" y="2205000"/>
            <a:ext cx="2737080" cy="2068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rcRect l="14400" t="11329" r="16242" b="14958"/>
          <a:stretch/>
        </p:blipFill>
        <p:spPr>
          <a:xfrm>
            <a:off x="3276720" y="765000"/>
            <a:ext cx="1444680" cy="1943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rcRect l="0" t="10071" r="0" b="16000"/>
          <a:stretch/>
        </p:blipFill>
        <p:spPr>
          <a:xfrm>
            <a:off x="4572000" y="4508640"/>
            <a:ext cx="230508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765000"/>
            <a:ext cx="7272360" cy="1943280"/>
          </a:xfrm>
          <a:prstGeom prst="wedgeRoundRectCallout">
            <a:avLst>
              <a:gd name="adj1" fmla="val -9287"/>
              <a:gd name="adj2" fmla="val 74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look at the tray ag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things will be different can you guess what they 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4508640"/>
            <a:ext cx="2016360" cy="1952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0" r="0" b="5215"/>
          <a:stretch/>
        </p:blipFill>
        <p:spPr>
          <a:xfrm>
            <a:off x="7613640" y="549360"/>
            <a:ext cx="1020600" cy="2592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rcRect l="37239" t="0" r="0" b="0"/>
          <a:stretch/>
        </p:blipFill>
        <p:spPr>
          <a:xfrm>
            <a:off x="6804000" y="4149720"/>
            <a:ext cx="17668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148360" y="404640"/>
            <a:ext cx="1944720" cy="1675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98764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643280" y="2205000"/>
            <a:ext cx="2737080" cy="2068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rcRect l="16242" t="14958" r="14400" b="11329"/>
          <a:stretch/>
        </p:blipFill>
        <p:spPr>
          <a:xfrm>
            <a:off x="3276720" y="765000"/>
            <a:ext cx="1444680" cy="1943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rcRect l="0" t="10071" r="0" b="16000"/>
          <a:stretch/>
        </p:blipFill>
        <p:spPr>
          <a:xfrm>
            <a:off x="4572000" y="4508640"/>
            <a:ext cx="230508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4508640"/>
            <a:ext cx="2016360" cy="1952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0" t="0" r="0" b="5215"/>
          <a:stretch/>
        </p:blipFill>
        <p:spPr>
          <a:xfrm>
            <a:off x="7613640" y="549360"/>
            <a:ext cx="1020600" cy="259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2271600" cy="2305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rcRect l="0" t="0" r="37239" b="0"/>
          <a:stretch/>
        </p:blipFill>
        <p:spPr>
          <a:xfrm>
            <a:off x="6804000" y="4149720"/>
            <a:ext cx="1766880" cy="2087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5148360" y="404640"/>
            <a:ext cx="1944720" cy="1675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298764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4643280" y="2205000"/>
            <a:ext cx="2737080" cy="206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rcRect l="14400" t="11329" r="16242" b="14958"/>
          <a:stretch/>
        </p:blipFill>
        <p:spPr>
          <a:xfrm>
            <a:off x="3276720" y="765000"/>
            <a:ext cx="1444680" cy="1943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rcRect l="0" t="10071" r="0" b="16000"/>
          <a:stretch/>
        </p:blipFill>
        <p:spPr>
          <a:xfrm>
            <a:off x="4572000" y="4508640"/>
            <a:ext cx="230508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9640" y="765000"/>
            <a:ext cx="7272360" cy="1943280"/>
          </a:xfrm>
          <a:prstGeom prst="wedgeRoundRectCallout">
            <a:avLst>
              <a:gd name="adj1" fmla="val -9287"/>
              <a:gd name="adj2" fmla="val 748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look at the tray ag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hings will be different can you guess what they 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659640" y="476280"/>
            <a:ext cx="2016000" cy="19526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0" r="0" b="5215"/>
          <a:stretch/>
        </p:blipFill>
        <p:spPr>
          <a:xfrm>
            <a:off x="539640" y="3789360"/>
            <a:ext cx="1020960" cy="2592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2271600" cy="2305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rcRect l="0" t="0" r="37239" b="0"/>
          <a:stretch/>
        </p:blipFill>
        <p:spPr>
          <a:xfrm>
            <a:off x="6804000" y="4149720"/>
            <a:ext cx="1766880" cy="2087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2556000" y="34290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4643280" y="2205000"/>
            <a:ext cx="2737080" cy="2068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rcRect l="14400" t="11329" r="16242" b="14958"/>
          <a:stretch/>
        </p:blipFill>
        <p:spPr>
          <a:xfrm>
            <a:off x="3276720" y="765000"/>
            <a:ext cx="1444680" cy="1943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rcRect l="0" t="16000" r="0" b="10071"/>
          <a:stretch/>
        </p:blipFill>
        <p:spPr>
          <a:xfrm>
            <a:off x="4572000" y="4508640"/>
            <a:ext cx="230508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4037040" cy="3433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619280" y="4292640"/>
            <a:ext cx="604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ime to 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our brain read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84360" y="404640"/>
            <a:ext cx="3600360" cy="1079640"/>
          </a:xfrm>
          <a:prstGeom prst="wedgeRoundRectCallout">
            <a:avLst>
              <a:gd name="adj1" fmla="val 79717"/>
              <a:gd name="adj2" fmla="val 429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let’s try something really ha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2538360" cy="4967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260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You are going to observe a candle very carefu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1197360"/>
            <a:ext cx="39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the cand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colour of the string at the top of the candl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what the candle feels lik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you see any marks, or spots, inside the candl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 how hard the candle 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y something about the cand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2538360" cy="4967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95280" y="260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w look at the cand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269720"/>
            <a:ext cx="396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w the cand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colors are in the flam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y smok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 is the flame dark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can you do to change the shape of the flam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wax dripping down the side of the candl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aw the wax that is dripping down the side of the cand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es the candle make any noise as it burn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es the burning candle produce an smell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419640" y="1557360"/>
            <a:ext cx="2538360" cy="4967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5280" y="3333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you tell me about the candle? What did you obser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459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27640" y="3489480"/>
            <a:ext cx="4716360" cy="336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>
            <a:off x="4859280" y="549360"/>
            <a:ext cx="4284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Spot t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differ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6553440" cy="606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68360" y="260280"/>
            <a:ext cx="741672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268280"/>
            <a:ext cx="741672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2133720"/>
            <a:ext cx="741672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2924280"/>
            <a:ext cx="741672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3789360"/>
            <a:ext cx="741672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4581360"/>
            <a:ext cx="741672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373720"/>
            <a:ext cx="741672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6137280"/>
            <a:ext cx="741672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111640" cy="4856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1890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1 minute to look at this picture caref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765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lour was the man’s su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70028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lour was the benc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70828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as eating on the grou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4046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name 3 of the sports in the pic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06064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lour was the baseball player’s c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40766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lour was the fisherman’s t-shi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4037040" cy="3433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619280" y="4292640"/>
            <a:ext cx="604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ime to ge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our brain read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2:45:19Z</dcterms:created>
  <dc:creator>k.bailey</dc:creator>
  <dc:description/>
  <dc:language>en-US</dc:language>
  <cp:lastModifiedBy>k.bailey</cp:lastModifiedBy>
  <dcterms:modified xsi:type="dcterms:W3CDTF">2009-10-12T12:46:55Z</dcterms:modified>
  <cp:revision>1</cp:revision>
  <dc:subject/>
  <dc:title>Slide 1</dc:title>
</cp:coreProperties>
</file>